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sound009.wav" ContentType="audio/x-wav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930-D0A2-4ED5-9FB4-4A4E4E4A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9F0-9C24-483A-8103-C999EDC2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876-3BC0-4C5D-B493-31C11CFD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277-C27E-4E6A-8123-09942B99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B59-853D-473D-AAF1-F2397BAA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662-79FC-4B9C-AB13-A4779AF8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A70-3D51-42F2-88A6-FDFA2579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084-34A1-470B-9195-EBBFDC9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DAB-DC68-478C-AB1C-9588A31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0F3-459C-4776-96BD-48556A0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E06-7D82-402D-A70D-F55001F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D0B-086C-4CF5-8AEE-710F8662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6D29-507E-4151-B0C9-31AD7DF75C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9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476280"/>
            <a:ext cx="8810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f  you can walk- we will teach you how to dance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847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שתקפ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713120" cy="6165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778200" cy="547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1640" y="1159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אלה שעומדים בצד מכירים את הריקוד מהבי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לפי הנעלים רואים שהוא לא רומנ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780000" y="1159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הם חושבים שעדיף לנסוע לרומני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68880" y="1384200"/>
            <a:ext cx="3975120" cy="5473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1456600">
            <a:off x="0" y="620640"/>
            <a:ext cx="550872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6720" y="11592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avid"/>
              </a:rPr>
              <a:t> ברומניה הבחורות והבחורים מאד יפ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335480" cy="612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118040" cy="600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8000" y="115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חלק מהלהקה של מריוס ברומניה מעניין את מי  מאתנו הוא יצר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8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63528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הוא כבר רכש חולצה רומני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1159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יהודה שמכיר את כל הריקודים בשמותיהם מוודא שלא דילגו על אף אח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419360" cy="6121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88000" y="765000"/>
            <a:ext cx="4267080" cy="568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בינועם ורעייתו שהביאו את האורחים מחול ואירחו אותם בבית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651640" y="98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David"/>
              </a:rPr>
              <a:t> היא כבר מתכוננת לנסיעה. שמעה שברומניה קר והחלה לסרוג שמיכ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23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95640" y="1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שלובי ידי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389560"/>
          </a:xfrm>
          <a:prstGeom prst="rect">
            <a:avLst/>
          </a:prstGeom>
          <a:ln w="127080">
            <a:solidFill>
              <a:srgbClr val="80008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435640" y="2205000"/>
            <a:ext cx="936720" cy="86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5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67280" y="18900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ומה אומרות הידיי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189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משני צידי המרא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629240" cy="515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21120" y="404640"/>
            <a:ext cx="4322880" cy="576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47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מי יזכור  איך מחזיקים את הידיים בכל ריקו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481640" cy="59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32360" y="40464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340520" cy="5040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08720" y="40464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32440" y="26028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David"/>
              </a:rPr>
              <a:t>גילינו שגם הרומנים מחליפים זוג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273560" cy="5697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4213440" cy="5618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35640" y="18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וכולם נהנים מז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456080" cy="59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245120" cy="566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24360" y="33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אם זו דרך להיכר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788000" cy="5040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922920" cy="52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56360" y="47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ו הזדמנות לגוו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92520" cy="612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3862440" cy="55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1159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קלרה בת הזוג שלי לא רצתה להחליף אות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18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ם עוד התלבט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070160" cy="542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94320" cy="590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00720" y="115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ביאלה העניקה מתנה למורים שהצליחו במשימ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685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115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יהודה שר להם שיר הלל ( ברומנית כמוב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1280" cy="5689440"/>
          </a:xfrm>
          <a:prstGeom prst="rect">
            <a:avLst/>
          </a:prstGeom>
          <a:ln w="127080">
            <a:solidFill>
              <a:srgbClr val="8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987640" y="18900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David"/>
              </a:rPr>
              <a:t>מריוס ומריה הגיעו מרומניה ללמדנו ריקודים רומני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672600">
            <a:off x="611280" y="620280"/>
            <a:ext cx="7343640" cy="5508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51280" y="11592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חברה חיסלו את כל האוכ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ין פלא שכולם נשארו במשקל ההתחלת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362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56000" y="1159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ובסוף עוד חייכ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751640" cy="356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03640" y="3078000"/>
            <a:ext cx="5040360" cy="378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0360" y="62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מנצלים את הרגעים למנוחה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232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82920" y="2789280"/>
            <a:ext cx="5761080" cy="4068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84720" y="549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אז למה לרקוד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ea typeface="Davi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8280" y="45165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רי לא מקבלים גביע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1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ולא מדלי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19640" y="-1000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כי לרקוד זו שמחה ואוש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1280" y="-7920"/>
            <a:ext cx="810108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03640" y="1341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שומרת עליך צעיר לנצ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32360" y="1890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ffffff"/>
                </a:solidFill>
                <a:latin typeface="Arial"/>
                <a:cs typeface="David"/>
              </a:rPr>
              <a:t>והזדמנות לחוש את הביח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83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843280" y="333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יש המעדיפים את הספורט הז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6451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635280" y="18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בו כל אחד לבד ובכל זאת ביח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88920"/>
            <a:ext cx="5790960" cy="6769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443640" y="692280"/>
            <a:ext cx="2449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David"/>
              </a:rPr>
              <a:t>הארגון היה מופת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David"/>
              </a:rPr>
              <a:t>ואם רק הייתי זוכרת את שמות הריקודים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059280" y="0"/>
            <a:ext cx="52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ea typeface="David"/>
              </a:rPr>
              <a:t> יצאתי מהבית עם שמים בהירים וים כחול בגלל הריקודי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ea typeface="David"/>
              </a:rPr>
              <a:t> וחזרתי עם אובך ורוח שהוציאה את הגלשנים מהבת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567480"/>
          </a:xfrm>
          <a:prstGeom prst="rect">
            <a:avLst/>
          </a:prstGeom>
          <a:ln w="127080">
            <a:solidFill>
              <a:srgbClr val="6600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859280" y="44370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 can walk and learned to dance So they succ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5157720"/>
            <a:ext cx="24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ff"/>
                </a:solidFill>
                <a:latin typeface="Arial"/>
              </a:rPr>
              <a:t>צילמה וערכ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ff"/>
                </a:solidFill>
                <a:latin typeface="Arial"/>
              </a:rPr>
              <a:t>רחל אלגו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gomr1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13080" y="233280"/>
            <a:ext cx="4930920" cy="662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87280" y="115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שולחן היה עמוס באוכ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1080" y="47628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רקדניות קיבלו את פני במחו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640" y="692280"/>
            <a:ext cx="4322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ff"/>
                </a:solidFill>
                <a:latin typeface="Arial"/>
                <a:cs typeface="David"/>
              </a:rPr>
              <a:t>האולם היה מלא ברקדנים מחיפה ירושלים  תל אביב וגם מרחובו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47628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זוגות חוללו סביב האול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84360" y="1159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עדין אינני מבינה למה מחזיקים כך את הידיי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132000" y="9079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David"/>
              </a:rPr>
              <a:t>הגברים העדיפו לאחוז את בנות זוג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4:55:04Z</dcterms:created>
  <dc:creator>shoseyov-pc1</dc:creator>
  <dc:description/>
  <dc:language>en-US</dc:language>
  <cp:lastModifiedBy>Rathome</cp:lastModifiedBy>
  <dcterms:modified xsi:type="dcterms:W3CDTF">2011-03-09T19:12:25Z</dcterms:modified>
  <cp:revision>8</cp:revision>
  <dc:subject/>
  <dc:title>Slide 1</dc:title>
</cp:coreProperties>
</file>