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sound009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1F2-C5AB-4550-A7BB-C433F981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01B-B4A4-4FDE-8301-43AF076B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D87-EF67-4050-9AE7-13B7D7E2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037-1C24-43C9-9BCF-D5923766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8A6-5E8B-465C-B18F-A544D5A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2DD-8B2B-4F2C-826B-6C0CDF0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DE9-FCC4-4571-AB61-4BBBAF8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549-8270-4C24-B0EA-2C5F2E28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AA0-85E2-409E-8A8F-4469939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BDA-A210-452D-8CA5-D0E8975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784-473A-4F59-BCF2-CF2866B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433-5657-4A0F-A48C-99CC8E6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8F9D-CAAA-4051-B6B7-81924F5F20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9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476280"/>
            <a:ext cx="8810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f  you can walk- we will teach you how to dance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847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תקפ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13120" cy="6165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778200" cy="547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1640" y="1159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אלה שעומדים בצד מכירים את הריקוד מהבי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לפי הנעלים רואים שהוא לא רומנ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80000" y="1159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הם חושבים שעדיף לנסוע לרומני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68880" y="1384200"/>
            <a:ext cx="3975120" cy="5473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1456600">
            <a:off x="0" y="620640"/>
            <a:ext cx="550872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1159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avid"/>
              </a:rPr>
              <a:t> ברומניה הבחורות והבחורים מאד יפ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33548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118040" cy="600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8000" y="115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חלק מהלהקה של מריוס ברומניה מעניין את מי  מאתנו הוא יצר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8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3528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הוא כבר רכש חולצה רומני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1159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הודה שמכיר את כל הריקודים בשמותיהם מוודא שלא דילגו על אף א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419360" cy="612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4267080" cy="568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בינועם ורעייתו שהביאו את האורחים מחול ואירחו אותם בבית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51640" y="98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היא כבר מתכוננת לנסיעה. שמעה שברומניה קר והחלה לסרוג שמיכ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2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95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שלובי ידי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389560"/>
          </a:xfrm>
          <a:prstGeom prst="rect">
            <a:avLst/>
          </a:prstGeom>
          <a:ln w="127080">
            <a:solidFill>
              <a:srgbClr val="80008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435640" y="2205000"/>
            <a:ext cx="93672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67280" y="1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ומה אומרות הידיי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189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משני צידי המר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629240" cy="515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21120" y="404640"/>
            <a:ext cx="4322880" cy="576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47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מי יזכור  איך מחזיקים את הידיים בכל ריקו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481640" cy="59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32360" y="404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34052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08720" y="40464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2440" y="260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גילינו שגם הרומנים מחליפים זוג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73560" cy="5697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4213440" cy="5618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35640" y="1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כולם נהנים מז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56080" cy="59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245120" cy="566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24360" y="33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אם זו דרך להיכר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78800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922920" cy="52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47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ו הזדמנות לגוו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862440" cy="55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1159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קלרה בת הזוג שלי לא רצתה להחליף אות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ם עוד התלבט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070160" cy="542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94320" cy="590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115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ביאלה העניקה מתנה למורים שהצליחו במשימ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85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115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הודה שר להם שיר הלל ( ברומנית כמוב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568944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987640" y="189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מריוס ומריה הגיעו מרומניה ללמדנו ריקודים רומ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672600">
            <a:off x="611280" y="62028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51280" y="11592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חברה חיסלו את כל האוכ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ין פלא שכולם נשארו במשקל ההתחלת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62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56000" y="1159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בסוף עוד חייכ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03640" y="307800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62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מנצלים את הרגעים למנוחה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23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82920" y="2789280"/>
            <a:ext cx="5761080" cy="406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472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ז למה לרקוד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8280" y="45165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רי לא מקבלים גביע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לא מדלי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-100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כי לרקוד זו שמחה ואוש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-7920"/>
            <a:ext cx="81010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3640" y="134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ומרת עליך צעיר לנצ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32360" y="1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  <a:cs typeface="David"/>
              </a:rPr>
              <a:t>והזדמנות לחוש את הבי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3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843280" y="33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ש המעדיפים את הספורט הז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45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635280" y="18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בו כל אחד לבד ובכל זאת בי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88920"/>
            <a:ext cx="5790960" cy="6769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692280"/>
            <a:ext cx="2449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הארגון היה מופת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ואם רק הייתי זוכרת את שמות הריקודים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059280" y="0"/>
            <a:ext cx="52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יצאתי מהבית עם שמים בהירים וים כחול בגלל הריקוד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וחזרתי עם אובך ורוח שהוציאה את הגלשנים מהבת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567480"/>
          </a:xfrm>
          <a:prstGeom prst="rect">
            <a:avLst/>
          </a:prstGeom>
          <a:ln w="127080">
            <a:solidFill>
              <a:srgbClr val="6600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859280" y="4437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 can walk and learned to dance So they succ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515772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</a:rPr>
              <a:t>צילמה וערכ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</a:rPr>
              <a:t>רחל אלג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gomr1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13080" y="233280"/>
            <a:ext cx="4930920" cy="662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115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ולחן היה עמוס באוכ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1080" y="47628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רקדניות קיבלו את פני במחו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640" y="692280"/>
            <a:ext cx="4322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  <a:cs typeface="David"/>
              </a:rPr>
              <a:t>האולם היה מלא ברקדנים מחיפה ירושלים  תל אביב וגם מרחוב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4762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זוגות חוללו סביב האול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84360" y="115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עדין אינני מבינה למה מחזיקים כך את הידיי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2000" y="9079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גברים העדיפו לאחוז את בנות זוג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4:55:04Z</dcterms:created>
  <dc:creator>shoseyov-pc1</dc:creator>
  <dc:description/>
  <dc:language>en-US</dc:language>
  <cp:lastModifiedBy>Rathome</cp:lastModifiedBy>
  <dcterms:modified xsi:type="dcterms:W3CDTF">2011-03-09T19:12:25Z</dcterms:modified>
  <cp:revision>8</cp:revision>
  <dc:subject/>
  <dc:title>Slide 1</dc:title>
</cp:coreProperties>
</file>